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3FBB-4B46-4F97-BE44-337B1FD3A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 2 02-09-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 3 02-09-06 (updated to conform to review com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 4 02-09-09 (added trademark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agy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20-23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Antonio, 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 T153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first row represents a 100% collision rate, I.e. every frame generates 1 coll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or a  10 meg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0 column is the time needed to wait for a frame to be transmitted from another station, in this case n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 from “when packets collide” SysAdmin magazine June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ama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p-868 will change it to 5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meg Ethernet – time is in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meg Ethernet to 1000 miles Frame Relay over 64K to 10 me Ethernet – time is in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meg Ethernet to 1000 miles Frame Relay over T1 to 10 meg Ethernet – time is in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ernet over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amble (8), destination (6), source (6), type/length (2), CRC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bytes header, 48 bytes data p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g (1), DLCI (2), CRC (2), flag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 = 1.544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3 = 44.736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60EC-843F-43CF-ADD7-A7790F97F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828800" y="431640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A133-F2BF-4ECB-9C26-F710924246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7748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800" y="43164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77480" y="43164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952AF-8D28-4021-A4A2-3E9FDF257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2000" y="21668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200" y="21668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828800" y="43164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2000" y="43164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200" y="43164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DD34C-E48E-45DA-999A-BE2E9BBBA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577480" y="216684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09360" y="66168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77480" y="216684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828800" y="43164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5B6B5-8F32-4CAB-8E17-6C4385CD5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7748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577480" y="43164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7748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800" y="431640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28800" y="431640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57748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43164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77480" y="43164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02000" y="21668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75200" y="21668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828800" y="43164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02000" y="43164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75200" y="431640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80A5B-0D0E-46BA-94F7-139A27577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77480" y="216684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7EF75-5CE4-4040-95EB-FB23BB4A1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79B6C-EC0C-46F2-854E-230B8AF7F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809360" y="66168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90DA-221D-4836-AE61-AD8D7664A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77480" y="216684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828800" y="43164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66AA-7B4F-4AF0-8A3A-FCFEEB9F3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7748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77480" y="431640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FE5D-962A-4FB2-97DC-DB5E68770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77480" y="21668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828800" y="431640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7D171-6B8F-4B54-B1FA-D5272F5E2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538280" cy="5973840"/>
          </a:xfrm>
          <a:prstGeom prst="rect">
            <a:avLst/>
          </a:prstGeom>
          <a:gradFill rotWithShape="0">
            <a:gsLst>
              <a:gs pos="0">
                <a:srgbClr val="9ea7d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Click to edit the title text format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85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spcBef>
                <a:spcPts val="8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-212400">
              <a:spcBef>
                <a:spcPts val="8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1647360" indent="-212400">
              <a:spcBef>
                <a:spcPts val="85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1647360" indent="-2124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1647360" indent="-2124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3400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44DE-AED5-4F81-AE27-04278CDEBFE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TR-ARC_COLPPT" descr=""/>
          <p:cNvPicPr/>
          <p:nvPr/>
        </p:nvPicPr>
        <p:blipFill>
          <a:blip r:embed="rId2"/>
          <a:stretch/>
        </p:blipFill>
        <p:spPr>
          <a:xfrm>
            <a:off x="76320" y="5762520"/>
            <a:ext cx="137160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248520"/>
            <a:ext cx="1981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371600" cy="175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38280" cy="5973840"/>
          </a:xfrm>
          <a:prstGeom prst="rect">
            <a:avLst/>
          </a:prstGeom>
          <a:gradFill rotWithShape="0">
            <a:gsLst>
              <a:gs pos="0">
                <a:srgbClr val="9ea7d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74880"/>
          </a:xfrm>
          <a:prstGeom prst="rect">
            <a:avLst/>
          </a:prstGeom>
          <a:solidFill>
            <a:srgbClr val="eab8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STR-TECH-ARC_COLOR&amp;BLKPPT" descr=""/>
          <p:cNvPicPr/>
          <p:nvPr/>
        </p:nvPicPr>
        <p:blipFill>
          <a:blip r:embed="rId3"/>
          <a:stretch/>
        </p:blipFill>
        <p:spPr>
          <a:xfrm>
            <a:off x="1828800" y="457200"/>
            <a:ext cx="4114800" cy="2643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1440" y="3809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http://standards.ieee.org/regauth/oui/index.shtml" TargetMode="External"/><Relationship Id="rId2" Type="http://schemas.openxmlformats.org/officeDocument/2006/relationships/hyperlink" Target="http://www.rfc-editor.org/rfc.html" TargetMode="External"/><Relationship Id="rId3" Type="http://schemas.openxmlformats.org/officeDocument/2006/relationships/hyperlink" Target="http://www.iana.org/" TargetMode="External"/><Relationship Id="rId4" Type="http://schemas.openxmlformats.org/officeDocument/2006/relationships/hyperlink" Target="http://www.protocols.com/pbook/" TargetMode="External"/><Relationship Id="rId5" Type="http://schemas.openxmlformats.org/officeDocument/2006/relationships/hyperlink" Target="http://www.private.org.il/tcpip_rl.html" TargetMode="External"/><Relationship Id="rId6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3504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10000"/>
                </a:solidFill>
                <a:latin typeface="Arial Black"/>
              </a:rPr>
              <a:t>Your Application from the Network’s Perspective</a:t>
            </a:r>
            <a:endParaRPr b="0" lang="en-US" sz="36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971440" y="5105520"/>
            <a:ext cx="437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ah Dav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oftware System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4648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320" y="4433760"/>
            <a:ext cx="1900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Propagation Delays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peed of light in a vacuum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35 milliseconds / 1000 m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TP (unshielded twisted pair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7,000 km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65 microseconds / 100 met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43C9-FDA2-4C5F-AA7D-38B8EFA424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Propagation Delays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ypical terrestrial facilities (including microwave, coax, and fiber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milliseconds / 1000 m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use a m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 from Phoenix to New York may go thru LA, Denver, Dallas and Chicago, find actual length from carr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osynchronous satellite facilities (transponder to transponder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280 milliseconds to rest of li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255B-A8B7-42F4-8A7E-B9DFA17AC0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Processing Delays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arly X.25 switches 20 – 100 mse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rn IP routers performing fast path routing less than 1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llisecond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milli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 1000 miles has this factored 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’ll ignore processing delays from now 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85FD-4B7F-438A-9313-2AF6DCAEB2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Queuing Delays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is slide inserted for completenes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’m not even going to try to talk about queuing theor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3E3D-5CBB-49EB-B9A6-290E20F6B7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Bandwidth Delay Product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ndwidth delay product =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ndwidth * del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is the minimum bandwidth of the end to end conn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ay includes all delays from end to e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g times are a fair estim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9BE81-5822-4541-A9DB-17253C90F4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828800" y="12193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C1A6-EA2D-4517-9F7B-6EFA02239A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Reference Network 1 (RN-1)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8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ngle LAN seg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ared medi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2743200"/>
            <a:ext cx="8380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2743200"/>
            <a:ext cx="8380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2743200"/>
            <a:ext cx="8380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42670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0AE3-7911-47E8-9A4D-24567B8229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tream of fram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relationship between one frame and the ne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tion delays in milliseconds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including 8 byte preamble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ern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57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7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208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52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 Ethern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057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7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122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52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gabit Ethern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005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7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12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52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rame Gap (IF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6/0.96/0.096 microseconds in Ethernet/Fast/Gig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significant propagation delay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BD48-31E2-45BF-A0EA-CF1276BA02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Collision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llisions are not a significant issue until you start getting a lot of them on the same fram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then it is not that big a de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% collisions is a my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AAA3-CB13-4DDD-B6C2-D84C14D2A9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Late Collision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n’t confuse collisions with late collis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 collisions are not retransmitted by the chi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ly indicates a network operational or design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duplex/half duplex mismat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bles too lo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p fai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5020-2603-42E1-A16D-A1F6EE06CC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Introduction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network sees your application as a sequence of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mes at layer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kets at layer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s at layer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Your application’s frames and packets may go through several different networks at layer 2 and 3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F52C-9332-4D08-9C6A-55A78747B5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Excessive Collision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n’t confuse collisions with excessive colli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16 tries the chip gives up and drops the fr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ly indicates an overloaded network or an operational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dly overloaded switch with backpres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will see a great many more deferrals tha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p fai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 duplex/half duplex misma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5AB0-09AA-440A-AC61-1636785CBC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Collision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2166840"/>
            <a:ext cx="7315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D30D-62B0-435F-B564-D8668BE6DF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Deferral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deferral occurs when an Ethernet chip goes to transmit a frame and finds the communication media already in use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thernet chip will always try to transmit 9.6 microseconds (10 mbps) (IFG) after the previous transmission en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2 stations have deferred they are guaranteed to col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70EE7-E009-4A5A-B2B4-60B4285B7E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Deferral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ume that just as the Ethernet chip is about to transmit the first bit of another frame is se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that frame is maximum length it will be 1.2304 milliseconds (10 mbps) before it can start and 2.4512 milliseconds before it can finish (assuming it is also a max fram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t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insertion delay + 9.6 microseconds IF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i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s another  max insertion de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A76A3-82B0-48E2-92E6-6B7DBB47C2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Deferral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f each frame in a 5 meg file transfer has to defer to 1 maximum frame from another station (100% deferral rat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meg file = 3,591 max frames + 1 shor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92 * 1.2304 = 4.4183 seco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time – with no coll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B818-1E25-405D-943D-06B6EF75BA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Reference Network 2 (RN-2)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358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ngle LAN seg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witched networ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19920" y="2743200"/>
            <a:ext cx="8380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2743200"/>
            <a:ext cx="8380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4380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743200"/>
            <a:ext cx="8380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42670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629400" y="4267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080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4724280"/>
            <a:ext cx="1067040" cy="152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17763-D2FA-4BB2-B2A6-D51758E3A3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witched - store and forward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ire frame is read and stored and checked for errors before it is transmitted out destination 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atency is typically much much higher for store and forward switches then for cut through switch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B1D18-80D9-4277-B250-52798EC727F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witched - cut through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 soon as destination address is read the frame is redirect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frame bits are transmitted while later ones are still being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rrored frames are forwarded to destin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tency is typically 40 microseconds (10 mbps), if destination port is fre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destination port is not free latency will depend on queuing time for the 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F642-26BA-41B8-8EFF-47305E8794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witched - backpressure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switches will generate a collision when they are overloaded in order to force the transmitter to sto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more single and multiple collisions than deferr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load may be overall volume that the switch is handling or overload on 1 or a few destination por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 may also be dropping pack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s should be investigated and the switch probably upgrad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6AF0-7A62-4B6F-8C2C-37E27A8E9E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witched – full duplex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witched networks can run as full duplex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ll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eferr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more significant from a performance point of 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w control handled by 802.3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sult in dropped frames if flow control is not supported by both h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2 flow control can screw up TCP congestion control and avoidance algorith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82CD-A914-4C47-A8FB-0294A3FE7F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Introduction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derstanding how sequences of frame/packet/segments and your networks interact can be the difference between an application design that works satisfactorily in the production environment instead of just the test environmen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in several different production environ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A856-AD75-4842-B424-09BC536E57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witched – full duplex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gnificant errors unless both stations (host and switch port) configured as full duplex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C and alignment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ssive and late coll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4D5F-8EA0-4B81-88E6-FCC0A7422E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ummary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hing you can do at the application programming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t the network operations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gnore “normal” colli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remember that late and excessive collisions are signific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rrals can add significant amount of time to the insertion de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deferral rates probably indicate an overloaded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0B000-F415-47DD-A2DA-4CBA0DCB54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2 – Ethernet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ummary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vestigate if a switch appears to be using backpressure or flow control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ware of CRC, alignment or other erro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BaseT spec 1 error bit per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 billion) b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error in 81,914 maximum sized frames (1,518 bytes + 8 byte pream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error in 473,485 small frames (256 bytes + p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error per 100,000 frames probably something to worry ab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BaseT spec: 1 error bit per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AC5B-FC82-4221-8326-ADC795BD47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828800" y="12193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Layer 3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F3BA-D82C-4FAE-8FF0-3F1597372B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Reference Network 3 (RN-3)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ple RN-1s or RN-2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nected via router and LAN lin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3080" y="3809880"/>
            <a:ext cx="83844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343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3809880"/>
            <a:ext cx="83844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773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10080" y="3809880"/>
            <a:ext cx="83844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53341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162920" y="5334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5791320"/>
            <a:ext cx="1066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3809880"/>
            <a:ext cx="83808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3809880"/>
            <a:ext cx="83808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809880"/>
            <a:ext cx="83808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53341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209680" y="53341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791320"/>
            <a:ext cx="1066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5257800"/>
            <a:ext cx="1066680" cy="10666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5410080"/>
            <a:ext cx="762120" cy="762120"/>
          </a:xfrm>
          <a:prstGeom prst="flowChar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514600" y="579132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791320"/>
            <a:ext cx="1371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5B3A-2B90-4973-96E7-B92C18BF13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Reference Network 4 (RN-4)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828440" y="216684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ple RN-1s or RN2-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parated by slow or long lin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53080" y="3962520"/>
            <a:ext cx="83844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3962520"/>
            <a:ext cx="83844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3962520"/>
            <a:ext cx="83844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91320" y="54864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162920" y="54864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5943600"/>
            <a:ext cx="1066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3962520"/>
            <a:ext cx="8380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962520"/>
            <a:ext cx="8380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962520"/>
            <a:ext cx="83808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54864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209680" y="54864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5486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5943600"/>
            <a:ext cx="1066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5410080"/>
            <a:ext cx="1066680" cy="10670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5562720"/>
            <a:ext cx="762120" cy="761760"/>
          </a:xfrm>
          <a:prstGeom prst="flowChar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14600" y="5638320"/>
            <a:ext cx="10666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47760" y="56386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48120" y="5943600"/>
            <a:ext cx="9144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486400" y="6019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486400" y="60199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029200" y="59436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95082-6A5C-4849-BD5B-F9DAD19FD50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Reference Network 5 (RN-5)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ple RN-1s or RN-2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parated by fast (T1 or T3) or short lin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4038480"/>
            <a:ext cx="83844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4038480"/>
            <a:ext cx="83844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7732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4038480"/>
            <a:ext cx="83844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132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91320" y="55627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162920" y="55627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6019920"/>
            <a:ext cx="1066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038480"/>
            <a:ext cx="83808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4038480"/>
            <a:ext cx="83808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4038480"/>
            <a:ext cx="838080" cy="60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55627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209680" y="55627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81080" y="5562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6019920"/>
            <a:ext cx="1066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5486400"/>
            <a:ext cx="1066680" cy="10666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14800" y="5638680"/>
            <a:ext cx="762120" cy="762120"/>
          </a:xfrm>
          <a:prstGeom prst="flowChar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514600" y="5715000"/>
            <a:ext cx="10666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047760" y="571500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048120" y="6019560"/>
            <a:ext cx="91440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86400" y="6095880"/>
            <a:ext cx="91440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86400" y="6095880"/>
            <a:ext cx="3808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029200" y="6019560"/>
            <a:ext cx="83808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921C9-AAF9-4DD4-BDB8-8B03FCEE4BD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3 – IP</a:t>
            </a:r>
            <a:br>
              <a:rPr sz="3800"/>
            </a:b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stream of pack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relationship between one packet and the nex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 for fra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n’t forget all the Layer 2 issu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ember that each frame is inserted multiple times, once by the sender and once by each rou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8CE0-5DE7-444C-9BFA-A6EDAD48D7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3 – I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Fragmentation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ach network layer has a maximum transmission unit (MTU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a packet is larger than the MTU the router must fragment i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s slows down the rout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s requiring fragmentation take a much slower path through the ro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probability that the packet will be lost goes up proportional to the number of frag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9933-9055-4FA6-8BD6-19BE62E1F64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3 – I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Fragmentation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ically more of an issue when the router is connecting WAN links then when it is connecting Ethern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st TCP stacks will user small packets (maximum segment size (MSS)) when the packets are being rout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_TC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2 bytes (otp-86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C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36 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® 2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536 byt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P-UX®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536 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00C7-0F64-49C3-8031-DCAC004560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828800" y="12193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17A7-4D9B-4245-997D-2A4E046F9A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3 – I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Fragmentation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increase default MSS to 146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_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: set_longword tcpos_default_mss$ 5b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C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: set_longword default_min_mtu 5c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determ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dd –h ip_pmtu_strate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determination for a connection is defaul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9960" indent="-20772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to 0 to use 536 without trying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KEY_LOCAL_MACHINE\SYSTEM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ControlSet\Services\Tcpip\Parameters\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9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ablePMTU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99F8-0D9B-4CF3-B3DB-417091E5B23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3 – I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Fragmentation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thing in the UDP stack to adjust packet size based on local or remote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end more than the MTU of the network it will cause fra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ically 1472 bytes (1500 – IP + UDP head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C02F8-3CA8-4452-B542-F53DE2E9D94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3 – I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Fragmentation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eck the selected MSS for fragmentation at the remote en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fragmented packets with netst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 protocol analyzer and look at the packets for frag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paths may change and what doesn’t cause fragmentation today may tomorr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paths to all destinations – what is good for 1 destination may hurt an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562B-7E39-4B3F-A6C5-C951B96DB06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3 – I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ummary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oid frag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receiving host netstat statistics for “fragments received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 the application lay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sending UDP packets larger than the minimum MTU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 the network operations lay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sure that the TCP MSS is not adjusted to adversely effect some networks (or at least make a conscious decision to do th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7D883-88A3-48B3-9C65-24F443BEF33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828800" y="12193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Layer 4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D4BF-F700-4DDF-98E0-97F42BA6C57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– TCP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equence of related segments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How client and server applications interact can have a profound impact on performanc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F5CF-C86B-4F60-B28E-18C2E51F0A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ypes of sequenc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ing po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e “A” sends a segment, wait for a response from side “B”,  side “A” sends another segment waits for a response from side “B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net, DNS query, NFS, T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inba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e “A” sends a segment, get back lots of segments from side “B”, side “A”sends another segment, get back even more segments from side “B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browsing, FT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E076-822F-42AC-8F68-243FBDEAD5F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ypes of sequenc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ng-bal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imes acts like ping pong sometimes like pinb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E86D-B209-4676-9FA7-90BF882C6B7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ping-pong sequenc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de “A” sends a segment, wait for a response from side “B”,  side “A” sends another segment waits for a response from side “B”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net, DNS query, NFS, TFT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3971E-3ED2-4DBB-BF77-CA1935B31B7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ping-pong sequenc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verall delay i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“A+B” insertion delays + propagation delay) * volley leng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longer the volley the more pronounced the effec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slower the network the more pronounced the effec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2508-732B-49EB-8F07-F995378338A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Delay versus Throughput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to end time to transmit a single packe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 term rate of transmi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AD9F6-BAE9-497C-B3A9-3A792E476B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ping-pong sequences RN-1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523880" y="1398600"/>
          <a:ext cx="609624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8600"/>
                    <a:ext cx="609624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1523880" y="1881360"/>
          <a:ext cx="6096240" cy="40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881360"/>
                    <a:ext cx="60962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9BB9-D044-479A-A035-4BC1EB23E27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ping-pong sequences RN-4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23880" y="1882800"/>
          <a:ext cx="609624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82800"/>
                    <a:ext cx="609624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0797-5B04-4E48-BBED-79DD89D5D3B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ping-pong sequences RN-5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523880" y="1882800"/>
          <a:ext cx="609624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82800"/>
                    <a:ext cx="609624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26D9-606F-46B2-B355-EB8F814EE27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ping-pong sequences - summary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ing pong sequences don’t work well over large delay networ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 data to reduce number of segments/voll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ing TCP window sizes won’t he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justing MSS may help (but avoid fragment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st segments will significantly increase dela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ansmission must wait for retransmission timer to expi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4492-CDD9-41B3-AE24-CD82EBDBEC7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pinball sequenc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ide “A” sends a segment, get back lots of segments from side “B”, side “A”sends another segment, get back even more segment from side “B”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 browsing, FT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9230C-2CF8-4C22-A91D-54278228E0B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pinball sequenc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lay is not significant, throughput i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roughput is controlled by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congestion window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send window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receive window s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AE36F-35DC-4E2C-83CF-9889A7D2B8E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congestion window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ols how many segments can be outstanding (not ACKed) at any given tim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low Sta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s window starts with 1 seg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successful ACK  adds 1 more segment until congestions window = receive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in exponential increase in cw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 2, 4, 8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315E-664C-4134-ABEA-9EB71A02C03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congestion window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gestion avoid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retransmission timer goes off or a duplicate ACK is rece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sthresh =  max (2, (min (cwnd, receive window)/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retransmission times goes 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wnd  =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CK for new data is recei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(cwnd &lt;= ssthres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wnd+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wnd = segment size * segment size /cwnd + cw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in linear growth until cwnd = ssthresh then exponenti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4E1B3-C588-477D-9796-EDB63B2C621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send window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s how many bytes can be buffered by the sender and therefore how many unACKed segments can be outstand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so controls how many bytes can be buffered after the receive window clo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BEAB-B0FC-4573-A1BE-0BA981A42D9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send window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 OS_TCP, FTX™, HP-UX, Windows 2000 controlled by the sender with a socket option SO_SNDBUF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CP doesn’t support SO_SNDBUF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A0895-4BF5-416F-9E0F-060CBDCB6F5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Types of delays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sertion del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to write the packet onto the communications li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pagation del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for the frame to travel down the communications li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distance and network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1E66-14F3-41E1-8F6D-F3C856B11B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send window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nd window sizes (in byte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 2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_TC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,46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32,76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C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,58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32,76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change based on conn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P-UX 1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,76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2,14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5535 for fast li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192 for slow li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D62A-01AB-4718-AC3C-B54691CD704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receive window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ols how many bytes can be buffered by the receiver in the TCP s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urrent window is advertised in each TCP header as the “window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n application fails to read data, TCP will still ACK it and will advertise a reduced window in the header of the ACK seg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zero window is advertised the sender must stop send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it is allowed to send window probes to make sure that an increase in the window has not been mis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F9C4-442B-4300-8567-462EBE02797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receive window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trols how many bytes can be sent by the sender before waiting for an 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nder can send up to the advertised receive window without waiting for an 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OS_TCP, FTX, HP-UX, Windows 2000 controlled by the receiver with the socket option SO_RCVBUF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CP doesn’t support SO_RCVBUF but dynamically increases the window if it sees that the connection is a “receive only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A017-25B6-442B-AB7A-8066F646477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receive window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window sizes (in byte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,520       1,073,741,82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somewhat dynamic based on the M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_TC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,46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32,76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C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8,19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65,53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change based on conn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P-UX 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,76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262,14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535 for fast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92 for slow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D3AA-D25B-470A-8671-85348B5AF13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window siz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timal window size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dwidth delay product rounded up to the next segment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handle error recovery send window should be 2 or even 3 times bandwidth delay produ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according to some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7537-FF60-462F-A5CC-C839E1E2AD9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window siz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 county (5000 miles) on a 64KB lin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delay = 0.079 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6 + 48 (data + overhead) * 8 / 64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 (ack) * 8 / 64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agation = .040 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0 miles * 8 ms / 1000 m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ing delay (at host) = 0.002 sec (local p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lowest link speed * round trip del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079 + 0.040 + 0.002) * 64,000 = 7,744 b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,744 / 8  = 968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 size = 1072 (2 * 53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409A-CC48-470D-AFAA-E3EED384659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window siz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ross county (5000 miles) on a T1 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delay = 0.003 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6 + 48 (data + overhead) * 8 / 1,540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 (ack) * 8 / 1,540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agation = .040 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0 miles * 8 ms / 1000 m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ing delay (at host) = 0.002 sec (local p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lowest link speed * round trip del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003 + 0.040 + 0.002) * 1,540,000 = 69,300 b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9,300 / 8  = 8,663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 size = 9,112 (17 * 53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5366D-1FA4-4DA7-92A7-BC1ABBFAB53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window siz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ross county (5000 miles) on a T3 li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delay = 0.0001 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36 + 48 (data + overhead) * 8 / 44,736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8 (ack) * 8 / 44,736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agation = .040 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0 miles * 8 ms / 1000 m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ing delay (at host) = 0.002 sec (local p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lowest link speed * round trip del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0001 + 0.040 + 0.002) * 44,736,000 = 1,883,385 b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883,385 / 8  = 235,423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 size = 235,840 (440 * 536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DA4CB-9622-44D1-A97F-7244B27E7832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window siz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0 mbps local LA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delay = 0.0001274 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1220 ms for max data seg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054 ms for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agation = 0.00000113 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565 microseconds / 100 met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ing delay (at host) = 0.002 sec (local p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lowes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k speed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* round trip dela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002) * 100,000,000 = 200,000 b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,000 / 8 = 25,000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 size = 26,280 (18 * 146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EF08-EEA6-4D2A-90A6-A4DA06243DBB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window siz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00 mbps local LAN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delay = 0.00001227 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122 ms for max data seg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005 ms for 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agation = 0.00000113 s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565 microseconds / 100 met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ing delay (at host) = 0.002 sec (local p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lowes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k speed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* round trip dela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002) * 1,000,000,000 = 2,000,000 b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,000 / 8 = 250,000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 size = 251,120 (172 * 146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67CD4-D272-4766-8331-133E0F279F9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Types of delays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cessing Del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for a hub/switch/router/thingy to process the pac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ueuing Dela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e that a packet is waiting in a buffer before being acted on, I.e. processed or transmit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DB60A-F09D-4AE2-939B-581E6BA5FB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TCP window sizes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828800" y="2166840"/>
          <a:ext cx="7315200" cy="4157640"/>
        </p:xfrm>
        <a:graphic>
          <a:graphicData uri="http://schemas.openxmlformats.org/drawingml/2006/table">
            <a:tbl>
              <a:tblPr/>
              <a:tblGrid>
                <a:gridCol w="2971800"/>
                <a:gridCol w="2057400"/>
                <a:gridCol w="2286000"/>
              </a:tblGrid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 siz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mil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7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mil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mil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,8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 Etherne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bit Etherne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,1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BEED-8D35-4F38-86E8-A366C545646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ummary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number of unACKed segments that can be outstanding at any one time is the minimum of t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stion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may not be possible to set an optimal window but get as close as possib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0FFE-15C5-4AED-A34F-82D0A088562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ummary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st segments totally destroy through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ngestion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ransmission timeou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e Spring 2001 Stratasphere “Packet Loss” for complete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the send or receive windows are too small the sender must stop and wait for ACKs to be receive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ignificantly reduces through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DFB1-EA41-480B-AD6C-12C5048C031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Layer 4 TCP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summary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timal window size is primarily a function of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agation delay for W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ing delay for L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0373-1336-4499-8A74-F0DA1335346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828800" y="12193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Unanticipated conversion from Pinball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ing pong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6598-F0FC-452F-8680-2A3B76D1A04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Nagel Algorithm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nly 1 packet &lt; MSS can be outstanding at any one tim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Once the first small packet is sent data is buffered until it equals MSS or the ACK is received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EA68-DF32-4E01-8982-D69071F2DEE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Nagel Algorithm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SS = 146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nd 100 bytes followed by 5000 byt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 1 = 100 by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s 2, 3, 4 = 4,380 by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gment 5 = 620 bytes will not be sent until the ACK from segment 1 is recei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4A53-5560-40A6-B99B-6A4CDBA36B0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Nagel Algorithm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olution #1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rn off Nagel with the NODELAY socket o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olution #2 (better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writes so that small segments are not sent before large on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5091-ADD0-4F0A-93BA-63F6B2F0B9D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Delayed ACK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CP will delay sending an ACK for a given period of tim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allows time for the application to send a reply and the ACK can be piggy backed on that data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s number of packets and packet overh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upled with Nagel this can significantly reduce through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AA9A-B479-4D2D-B58A-242281958B5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Delayed ACK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layed ACK tim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S_TC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chable but strongly recommend that it be left as 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effects other things besides the delayed A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C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patch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P-UX 1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5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are not suppor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2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y value is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TcpDelAckTi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01252-4CD1-4702-97D8-EA948CD9135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Insertion Delays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ime between the transmission of the first bit of the packet to the time of transmission of the last bit of the packe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= 8 * size in bytes / line speed in bits per s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lude all protocol overhead by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F7C20-2FF8-4688-A3A5-36C493019A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Delayed ACK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olution #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rn off Nag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olution #2 (better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the receiver send a reply when data is 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creases overhead but allows sender to confirm receipt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nder doesn’t have to wait for reply (not suggesting ping-po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ads and writes done asynchronous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EB88-04DC-4EB4-915D-AD36059016D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TCP Slow Start Congestion Avoidance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pplication cannot control thi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etwork should be error/congestion fre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opped packets trigger congestion avoidance which slows throughput down on purpose by requiring more 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23AB-A1D6-40EA-B77E-8847165D7F2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0 Receive Window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r is not reading data fast enough so that the receiver’s TCP buffer fills and it advertises a 0 windo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ndwidth delay is large enough or receive window is small enough so that the entire window can be filled before it is possible for sender to get an AC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668B1-517C-43C4-B4E1-64086D2983C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0 receive window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receiver not reading fast enough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eiver advertises 0 windo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nder stop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ceiver reads 1 or 2 seg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s a new window advertis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nder sends 1 or 2 seg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ust stop again until it gets another window advertis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et effect is as if the receiver window is only 1 or 2 segments – at least until the receiver can catch up and empty the receive queu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6763-1A03-4AB7-B1AC-2ACD727447B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0 receive window</a:t>
            </a:r>
            <a:br>
              <a:rPr sz="3800"/>
            </a:br>
            <a:r>
              <a:rPr b="0" lang="en-US" sz="3000" spc="-1" strike="noStrike">
                <a:solidFill>
                  <a:srgbClr val="010000"/>
                </a:solidFill>
                <a:latin typeface="Arial Black"/>
              </a:rPr>
              <a:t>large bandwidth delay with too small receive window</a:t>
            </a:r>
            <a:endParaRPr b="0" lang="en-US" sz="30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ault OS_TCP receive window = 11,468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a T3 can be transmitted 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,468 / 536 = 21.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2 * 48 + 11,468) * 8 / 44,736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0223 secon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RTT is 8 ms we will have to wait over 5ms before we can send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ing throughput by 72%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2 * 48 + 11,468)  * 8 / 0.008 = 12,524,0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4,736,000 – 12,524,000) / 44,736,000 * 1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F9845-2508-4FC6-9DF9-AAA540A6511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Summary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isting applic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pattern of F/P/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moving the application onto a new network understand the net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nclu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ng the application to a different server on a different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ing or changing clients so that they are using a different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CB2DD-1A14-4C62-AD8C-A3FCF64F79E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Summary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9c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 the network that the application will run 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9cd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 so that the pattern of F/P/S works well in that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ossible code that it will work well in any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A060-F6DA-4A6C-8233-790FDD31EBF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809720" y="66204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f5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networking with TCP/IP volumes 1, 2,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9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glas E C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f5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net Core Protoc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9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ic H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f5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hancing LAN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9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lbert H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f5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de-Area Data Network Performance Enginee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9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bert G. Cole and Ravi Ramasw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E9BE-D4AC-4428-BD41-1F7839AF634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809720" y="66204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f5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http://standards.ieee.org/regauth/oui/index.s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9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of public OU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5f5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www.rfc-editor.org/rfc.htm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9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ial RFC database (identifies obsolete RF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5f5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http://www.iana.org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9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assigned numbers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5f5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http://www.protocols.com/pbook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9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DCom Protocol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5f59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cc6600"/>
                </a:solidFill>
                <a:uFillTx/>
                <a:latin typeface="Arial"/>
                <a:hlinkClick r:id="rId5"/>
              </a:rPr>
              <a:t>http://www.private.org.il/tcpip_rl.htm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9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TCP/IP resource/referenc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9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1B89-B45B-4CAC-B6A0-69CE25E4853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Questions</a:t>
            </a:r>
            <a:endParaRPr b="0" lang="en-US" sz="38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1 = -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1 / 1 = 1 / -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QRT (-1 / 1) = SQRT (1 / -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QRT (-1) / SQRT(1) = SQRT (1) / SQRT (-1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/ 1 = 1 /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/ 2 = 1 / (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/ 2 + 3 / (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= 1 / (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+ 3 / (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/ 2 + 3 / (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) =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1 / (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+ 3 / (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/ 2 + (3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/ 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/ (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+ (3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/ (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-1) / 2 + 3 / 2 = 1 / 2 + 3 /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=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E053-F4E1-4277-AC7E-147E1AC40F01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09360" y="66168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Insertion Delays</a:t>
            </a:r>
            <a:br>
              <a:rPr sz="3800"/>
            </a:br>
            <a:r>
              <a:rPr b="0" lang="en-US" sz="2100" spc="-1" strike="noStrike">
                <a:solidFill>
                  <a:srgbClr val="010000"/>
                </a:solidFill>
                <a:latin typeface="Arial Black"/>
              </a:rPr>
              <a:t>(in milliseconds)</a:t>
            </a:r>
            <a:endParaRPr b="0" lang="en-US" sz="2100" spc="-1" strike="noStrike">
              <a:solidFill>
                <a:srgbClr val="01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800" y="216684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6 data bytes (with overhead)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00 data bytes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576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7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2208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526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Eth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57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7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220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526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gabit Eth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05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7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122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526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 (AT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492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06)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7875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696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 (AT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189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06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032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696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 (Frame Relay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2694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5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8031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506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 (Frame Relay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92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5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2693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1506)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7CEF-4A7F-4125-9962-D75C2BB9C9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828800" y="1670040"/>
            <a:ext cx="7086600" cy="5181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05120" y="75564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10000"/>
                </a:solidFill>
                <a:latin typeface="Arial Black"/>
              </a:rPr>
              <a:t>Trademark Inform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2736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1981080"/>
            <a:ext cx="6654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tratus, the Stratus logo, ftServer, Continuu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tinuous Processing, StrataLINK, and StrataNET are registered trademarks; the Stratus Technologies logo, the ftServer logo, the Stratus 24 x 7 logo, the Continuum logo, The World’s Most Reliable Servers,  The World’s Most Reliable Server Technologies, ftMessaging, ftStorage, and ftMemory are trademarks and ftService is a service mark of Stratus Technologies Bermuda Lt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l other trademarks are the property of their respective own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44400" y="5556240"/>
            <a:ext cx="57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ications and descriptions are summary in natu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subject to change without noti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92040" y="6272280"/>
            <a:ext cx="5882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002 Stratus Technologies Bermuda Lt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2A09-926E-4C70-A09E-A370237BB3C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ah Davids</cp:lastModifiedBy>
  <dcterms:modified xsi:type="dcterms:W3CDTF">2002-09-09T16:35:48Z</dcterms:modified>
  <cp:revision>55</cp:revision>
  <dc:subject/>
  <dc:title>PowerPoint Presentation</dc:title>
</cp:coreProperties>
</file>